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D054-B550-4388-955C-E685391F7E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might need to listen 2 or 3 times to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A1D6-879A-46D0-8969-5379CE5AA8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t then end, all letters could be stuck to the wall, all learners read them all and decide which one is the best, and send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6DF5-20E4-4BD2-9263-1356E2E7C2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 – 3 hours, depending on needs of learners: speaking (10 – 20 mins); vocabulary (10 – 30 mins); reading (10 – 30 mins); grammar (10 – 30 mins); listening (10 – 30 mins); writing (20 – 40 mi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B65A-B721-44B9-A276-8814C91B34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monitor for errors and get learners to correct these after the discu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4B71-2D75-444E-879F-1A83FBD333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cept-check phrases before or after learners discuss / categorize them. You can elicit and add word / phrase stress too, and drill phrases if necessary. Learners could use dictionaries or computers to check phr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9E51-4F60-491E-B5CA-DACAA21E53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differentiate by giving learners a choice between reading the easy version or the difficult version. Those who read the easy version can read the original for home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302F-32D5-40BE-B00E-B0BFBE5822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half sentences could be cut up for learners to match phys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c or f;  2) f or c; 3) h ;  4) g; 5) b ;  6)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ABE8-EC3D-4D38-A01A-794640356D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/ 2 / 3 = zero;  4  = 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;  5 / 6 / 7 =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7A7E-D04F-4830-9221-F38F147E7E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B: 1, 3 and 5 are second conditionals; 2 and 4 are first condi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177D-051E-4B61-B369-D58BD2F4DF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courage learners to predict answers to the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4E20-70FC-4ECA-8954-8EB7950968E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1CBF-690A-4C5F-8B6C-19629F85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B431-F921-4CFF-8C2F-8B98556E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CD8-3CAA-4D7C-905A-AE9B997D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704-F5EE-4D9F-91F9-EA3EB0EC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A3D4-4888-4229-AA0E-9C4DBC90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8F42-AF94-4920-B8C6-11496855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970D-55C2-4A76-B82A-691E29BD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5ECF-2355-4A51-A473-65FF6D32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F9B-D98E-4EC1-B49B-3312848C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810-0CF4-4FD0-8AC4-24A63480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CFB3-822D-4E7A-A0C2-8A5166D3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DA0-2FB1-4C1E-964F-37447223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E019-B64B-436A-BE95-68DF4E94C6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ewint.org/blog/radio-ni/2012/10/30/podcast-john-kirk-cuba-healthcare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Bad_medicine" TargetMode="External"/><Relationship Id="rId2" Type="http://schemas.openxmlformats.org/officeDocument/2006/relationships/hyperlink" Target="http://www.newint.org/features/2012/11/01/healthcare-keynote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2280"/>
            <a:ext cx="561636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alibri"/>
              </a:rPr>
              <a:t>Health for the world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5157720"/>
            <a:ext cx="7848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newint.org/issues/457-01-cover.jpg"/>
          <p:cNvPicPr/>
          <p:nvPr/>
        </p:nvPicPr>
        <p:blipFill>
          <a:blip r:embed="rId1"/>
          <a:stretch/>
        </p:blipFill>
        <p:spPr>
          <a:xfrm>
            <a:off x="6227640" y="54000"/>
            <a:ext cx="2808360" cy="397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new internationalist logo black on white.jpg"/>
          <p:cNvPicPr/>
          <p:nvPr/>
        </p:nvPicPr>
        <p:blipFill>
          <a:blip r:embed="rId2"/>
          <a:stretch/>
        </p:blipFill>
        <p:spPr>
          <a:xfrm>
            <a:off x="152280" y="22320"/>
            <a:ext cx="607536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isten to find the answ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int.org/blog/radio-ni/2012/10/30/podcast-john-kirk-cuba-healthca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newint.org/issues/457-01-cover.jpg"/>
          <p:cNvPicPr/>
          <p:nvPr/>
        </p:nvPicPr>
        <p:blipFill>
          <a:blip r:embed="rId2"/>
          <a:stretch/>
        </p:blipFill>
        <p:spPr>
          <a:xfrm>
            <a:off x="6300720" y="2924280"/>
            <a:ext cx="26035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write a formal letter to the health minister in your govern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of the phrases we categor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conditional sen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ideas from the 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ideas from the list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proof-read the letter carefu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alibri"/>
              </a:rPr>
              <a:t>Vocabulary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catego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Calibri"/>
              </a:rPr>
              <a:t>Read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Grammar focu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condition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alibri"/>
              </a:rPr>
              <a:t>Listen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nswer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 formal l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 these 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Calibri"/>
              </a:rPr>
              <a:t>How good is healthcare in the world today? And in your country / countri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alibri"/>
              </a:rPr>
              <a:t>How does inequality affect healt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50"/>
                </a:solidFill>
                <a:latin typeface="Calibri"/>
              </a:rPr>
              <a:t>Which countries have the best healthc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What can we do to improve health and healthcare in the worl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Words and phrases: are these related to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health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problems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 or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solu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health insurance           financial crisi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corruption              majority world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life expectancy                   vaccinatio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pharmaceutical companies     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IMF debt               disease prevention                          indigenous peopl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 to find 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1341000"/>
            <a:ext cx="885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sy: 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Bad_medic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fficult: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ewint.org/features/2012/11/01/healthcare-keynote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ww.newint.org/issues/457-01-cover.jpg"/>
          <p:cNvPicPr/>
          <p:nvPr/>
        </p:nvPicPr>
        <p:blipFill>
          <a:blip r:embed="rId3"/>
          <a:stretch/>
        </p:blipFill>
        <p:spPr>
          <a:xfrm>
            <a:off x="2987640" y="2781360"/>
            <a:ext cx="26035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ammar focus: match these half sent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197000"/>
            <a:ext cx="417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) If Leela feels ill, 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2) If she is too tired or ill to work, ..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3) The hospital gets subsidies from the govern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4) But Indians will only believe this 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5) Now people are talking again about healthcare for all –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6) Sachs says that if we had a minimal healthcare package,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7) But it would be more possible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56000" y="1125000"/>
            <a:ext cx="460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4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it starts to happ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t would cost around $50 – 60 for each person for a yea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) she asks one of Preeti’s children for a paracetamo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) if earnings were higher and more equ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) her son takes her to a doctor for the po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) as if it were a new ide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)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they promise to keep a few beds for the po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ow match the completed sentences to these conditional structur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928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Zero conditional (facts, if=when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70c0"/>
                </a:solidFill>
                <a:latin typeface="Calibri"/>
              </a:rPr>
              <a:t>If + present tense, + present tens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GB" sz="33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 conditional (future possibility /choices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c00000"/>
                </a:solidFill>
                <a:latin typeface="Calibri"/>
              </a:rPr>
              <a:t>If + present tense, + future simple (will + infinitive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33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 conditional (improbability / impossibility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030a0"/>
                </a:solidFill>
                <a:latin typeface="Calibri"/>
              </a:rPr>
              <a:t>If + past tense, + conditional tense (would + infinitive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(there are other conditionals too, of course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pairs, complete these sentences with information from the text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doctors told poor people to get treatment,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poor people have to pay for healthcare,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the Indian government spent more money on healthcare than on arms,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people get stressed by not feeling they are part of society,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societies were more equal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the text, they talk about healthcare in Cuba – discuss possible answers to these question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2205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hat is so good about healthcare in Cub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How does Cuba have money for this healthc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Do some people (the elite) get better (preferential) treat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hat difficulties / challenges does healthcare in Cuba still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0:28:15Z</dcterms:created>
  <dc:creator>Mix</dc:creator>
  <dc:description/>
  <dc:language>en-US</dc:language>
  <cp:lastModifiedBy>Mix</cp:lastModifiedBy>
  <dcterms:modified xsi:type="dcterms:W3CDTF">2012-11-04T15:17:37Z</dcterms:modified>
  <cp:revision>22</cp:revision>
  <dc:subject/>
  <dc:title>Health for the world?</dc:title>
</cp:coreProperties>
</file>